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292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4FC9C-8502-4B0D-B177-9658C71A61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9A2AC-AB1D-4509-BBED-846CCD7B5A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EA8A-172F-4259-B0F9-299A16D42D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F8951-96AE-414A-A849-86E158460E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630D7-A35B-4FB1-8E7E-DBC97DA8BA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5A36-7952-40C8-AF39-7BCCF811CF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80850-4759-429B-BD01-0B44906F20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E68FB-5C96-4841-8EB3-68FBDA93EE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680D1-D162-4FA1-BEA6-ADF4DCE4A7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9FC3-CCEA-467B-816C-6F90336109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9FDEE-1A6D-4DBC-A478-1CD20A9367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40E61-466F-41A0-89C8-704E599770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02182-5F64-4F57-B0A8-A7CD67795E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1571-3EB5-4656-BF98-22D41D672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C621-1206-4942-AB51-B64736E5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E496-07E5-4ED5-A03A-4C69FD3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8DD0-A2AF-4624-AF85-4EB7CF67F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25E1-E620-4258-A181-8E15290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F9F6-D3FA-419D-B56B-E6D86C0A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16F1-99E8-4305-9738-26EA8BD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FB76-CA6E-4C8F-A50B-D2EC45F2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0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8B08-F678-46FD-93D8-8E362816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6E00-F658-4A0F-9339-DDDAC556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0E45-4136-4AF8-9FD6-4C3CE69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42A1-7CDB-41C7-99B3-4586219A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89744B-41C7-4F12-ACA4-AD6CEFB512A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116000" y="306540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97000"/>
            <a:ext cx="77043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pan unas tres cuartas partes de la superficie terrest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se ha conocido su relieve hasta hace poco, cuando la tecnologí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 permitido observar los fondos marinos a gran profund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acan las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plataformas continent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las llanuras abis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las dorsal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las f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zonas sumerg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9">
            <a:hlinkClick r:id="rId3" action="ppaction://hlinksldjump"/>
          </p:cNvPr>
          <p:cNvSpPr/>
          <p:nvPr/>
        </p:nvSpPr>
        <p:spPr>
          <a:xfrm>
            <a:off x="468360" y="328464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taforma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1476360" y="3645000"/>
            <a:ext cx="108252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614920" y="2781360"/>
            <a:ext cx="14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lanura abi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H="1">
            <a:off x="5855760" y="3035160"/>
            <a:ext cx="41292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067280" y="2921040"/>
            <a:ext cx="82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r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4200120" y="3208320"/>
            <a:ext cx="22716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002360" y="301320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756480" y="3301920"/>
            <a:ext cx="53496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4140360" y="6237360"/>
            <a:ext cx="2376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en los rótulos</a:t>
            </a:r>
            <a:br>
              <a:rPr sz="1600"/>
            </a:b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116000" y="29257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34920" y="1274760"/>
            <a:ext cx="7740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prolongaciones de los continentes cubiertas por el océ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elen ser bastante llanas aunque van descendiendo en profundidad a medida que se adentran en el océ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en una fuerte pendiente llamada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talud contin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plataformas contin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4000" y="285264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taforma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476360" y="3284640"/>
            <a:ext cx="108252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965320" y="2781360"/>
            <a:ext cx="1803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lud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H="1">
            <a:off x="2838240" y="3132000"/>
            <a:ext cx="725400" cy="80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39196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4356000" y="630540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683928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34920" y="1274760"/>
            <a:ext cx="7345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extensas llanuras de gran profundidad (normalmente más de 3000 metros de profundidad) que ocupan gran parte del océ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la puede haber volcanes y montañas que, en ocasiones, alcanzan gran altura y forman is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llanuras abi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380360" y="3211560"/>
            <a:ext cx="14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lanura abi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6396120" y="3355920"/>
            <a:ext cx="9842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508720" y="2492280"/>
            <a:ext cx="14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sla volcá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867280" y="2852640"/>
            <a:ext cx="11916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3924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36104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081080" y="28321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71640" y="1197000"/>
            <a:ext cx="7561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grandes cadenas de montañas lineales que se extienden miles de kilómetros, dividiendo las llanuras abisales. Pueden alcanzar grandes alturas y emerger en forma de islas, como en el caso de Island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centro hay una hendidura llamada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rif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dor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753080" y="2708280"/>
            <a:ext cx="82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r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4167360" y="2954160"/>
            <a:ext cx="830160" cy="10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60720" y="2708280"/>
            <a:ext cx="82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3338640" y="3011400"/>
            <a:ext cx="438120" cy="14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392436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361040" y="6089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081080" y="26179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934920" y="1274760"/>
            <a:ext cx="75978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hendiduras alargadas, estrechas y muy profun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ayores llegan a alcanzar más de 10 km de profundidad y cientos de kilómetros de longitu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f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967440" y="2565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6721560" y="2854440"/>
            <a:ext cx="53496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3995640" y="59500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4432320" y="60181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03:50Z</dcterms:modified>
  <cp:revision>49</cp:revision>
  <dc:subject/>
  <dc:title>Diapositiva 1</dc:title>
</cp:coreProperties>
</file>